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688153"/>
        <c:axId val="88533485"/>
      </c:barChart>
      <c:catAx>
        <c:axId val="356881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533485"/>
        <c:crosses val="autoZero"/>
        <c:auto val="1"/>
        <c:lblAlgn val="ctr"/>
        <c:lblOffset val="100"/>
        <c:noMultiLvlLbl val="0"/>
      </c:catAx>
      <c:valAx>
        <c:axId val="885334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881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B0D3-6D25-4385-A054-A809F5CF5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32E1-C952-40F8-99E3-C651588F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9797-F07B-45DA-B9C8-1B3EB8095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E120-8A02-4237-AF11-4BA899035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D80E-E1E9-424C-ABA5-285BED3C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025E-7927-4A1D-9530-30FA2EA9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B5C3-CC03-4A00-A169-D70B01B3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90A2-7BBB-4EBB-A3F1-15E39E87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2A43-EA7C-4D51-8507-F8C4C9B7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DB05-3C87-4435-9141-2CE83E3C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32DE-2E59-4912-B34E-A7E79CF7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B49E-F1CF-4239-9441-A7150F63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27759-8C0E-433A-BEB8-0FA0FF4EE5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