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379493"/>
        <c:axId val="33812886"/>
      </c:barChart>
      <c:catAx>
        <c:axId val="633794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12886"/>
        <c:crosses val="autoZero"/>
        <c:auto val="1"/>
        <c:lblAlgn val="ctr"/>
        <c:lblOffset val="100"/>
        <c:noMultiLvlLbl val="0"/>
      </c:catAx>
      <c:valAx>
        <c:axId val="338128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794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2EE8-1BE2-4A1A-8E4C-0B724D68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6913-D13D-42F4-9DA7-18947104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16A1-419E-4217-AEC6-AE43CA4A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E393-4735-4F97-8F50-3E700BF8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2F08-CD5C-45D1-B4D2-30733D7F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8668-1708-41C6-B388-0C4CBC88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2AB0-C3A1-492E-B013-4DC520E1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8212-9533-4895-BF24-6FD431C8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0968-4938-4798-AF7C-1BA4CFC5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81E3-5913-40F7-86E3-58C71324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2922-664A-4ADC-AC81-B0D51BBE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41E6-3240-48F9-8663-3AEC2C7F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CF2FD-3CB7-4A33-875A-1C2A4CB790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