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14837"/>
        <c:axId val="40790014"/>
      </c:barChart>
      <c:catAx>
        <c:axId val="86214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90014"/>
        <c:crosses val="autoZero"/>
        <c:auto val="1"/>
        <c:lblAlgn val="ctr"/>
        <c:lblOffset val="100"/>
        <c:noMultiLvlLbl val="0"/>
      </c:catAx>
      <c:valAx>
        <c:axId val="40790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14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E8F-E726-4E56-85AD-BC4EB8FB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9F5-D6B1-45AB-A2BC-EE088BF5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621-079F-4F80-B891-DD155D00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6A6-B65E-4A69-925F-36C74FD5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37B-1E74-4684-A333-68597AA2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DF5-1754-441B-B35E-A2BAF6A9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9AC-0A5A-4A47-8E7A-13642556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F71-CE89-45BD-9D17-C6B4A907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330-B031-498C-9A7F-2C8B9004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068-5E67-4FEC-80DE-C919174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55A-455E-408E-AEEC-6DF09352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697-E693-4E8D-BF05-BA98568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69ADB-15A7-400E-87BC-DD583B739C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