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560"/>
        <c:axId val="62994109"/>
      </c:barChart>
      <c:catAx>
        <c:axId val="471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94109"/>
        <c:crosses val="autoZero"/>
        <c:auto val="1"/>
        <c:lblAlgn val="ctr"/>
        <c:lblOffset val="100"/>
        <c:noMultiLvlLbl val="0"/>
      </c:catAx>
      <c:valAx>
        <c:axId val="629941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D6DF-A19D-4A21-95D9-95C6DDA2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6A9-CE72-408F-A433-8AE2045F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510-DF9E-4EDD-9925-FD565D97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3EB-4EE2-4403-A1E5-F0C5CF4E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4B5-6D9B-4486-8B53-13B845C6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0513-ECE8-4197-8DF7-7716D5FF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B99-C119-491A-8617-AC86A175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E1F-7C77-41D9-BF99-AA0BBB6D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CA5-2B12-47E8-B11D-8615B88C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E02-B342-424A-908D-6A4C4EBF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C55-B95C-4DF2-B2B5-02F94FD9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D72-9A90-4069-9EC7-C40FFCF5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B20FF-8E44-4260-A869-6F7BC3205D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