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4001"/>
        <c:axId val="38293930"/>
      </c:barChart>
      <c:catAx>
        <c:axId val="450040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293930"/>
        <c:crosses val="autoZero"/>
        <c:auto val="1"/>
        <c:lblAlgn val="ctr"/>
        <c:lblOffset val="100"/>
        <c:noMultiLvlLbl val="0"/>
      </c:catAx>
      <c:valAx>
        <c:axId val="38293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40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5B1E-84B1-4A4A-A83A-111DE6E92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6B8DB-04CD-42FA-8AE2-03D8C9D14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9C8-FC07-4AEA-A493-00A85A96F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AAD8-B9A1-4393-88DE-C3F39631C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821E-AB50-467B-B47D-680E33FA8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3CBC-D5EB-4469-BA6F-F997988CF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D5A3-2535-45BA-AEFF-9FA29767F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AFDF-C945-4E81-A111-BD213C73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38E-5D94-4E3F-9808-1E2FB4455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5A6E-1F32-4DFD-94A2-A8C94031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BD6E-74E5-4E33-83E4-4D528043B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5D606-CC1C-4D0E-B808-ED8B7E0B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0D6AB2-BE63-4B50-A713-B8D428A6BCE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