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62622"/>
        <c:axId val="25153761"/>
      </c:barChart>
      <c:catAx>
        <c:axId val="648626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53761"/>
        <c:crosses val="autoZero"/>
        <c:auto val="1"/>
        <c:lblAlgn val="ctr"/>
        <c:lblOffset val="100"/>
        <c:noMultiLvlLbl val="0"/>
      </c:catAx>
      <c:valAx>
        <c:axId val="251537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626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0BE-FFEF-4EBD-B83D-5508B69E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4E3-7BC8-4EF9-BAB1-5CB494F1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69A8-88B2-4E40-8B63-2046F48F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6D5-B1C8-44E4-9121-969D601A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A61-93E2-44BA-B37B-6C6B9F28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349-86AD-4CA1-9DA3-D97D11CD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9D06-201D-41F4-AA6C-6C172916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39F-164D-4EC9-9177-D9C0B80C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A86-CD90-4991-88B6-7DDBB946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07B-4E9B-45C8-9609-9F3FB238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F16-05C9-44C3-8602-F9FC0CD3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5B6B-62C8-4A3C-8775-5943A24B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0E517-6C08-4FF7-ADC9-3C666FD0F1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