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82524"/>
        <c:axId val="65540578"/>
      </c:barChart>
      <c:catAx>
        <c:axId val="947825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40578"/>
        <c:crosses val="autoZero"/>
        <c:auto val="1"/>
        <c:lblAlgn val="ctr"/>
        <c:lblOffset val="100"/>
        <c:noMultiLvlLbl val="0"/>
      </c:catAx>
      <c:valAx>
        <c:axId val="65540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825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D9D4-6773-4F8F-B0BA-82FD8F78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EF97-2401-4031-9B4B-26C6657B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3AD3-5F29-4D34-97A5-345590DA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4C9D-1A2B-4344-91A6-B3BEFFCB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E8D3-6894-47D7-B164-1A8E45B2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7316-41F3-4015-BB74-92EA1071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3416-E8BE-461E-B17A-5C3B2A88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716-5ED6-49AB-82A5-CB81EDA4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4B1E-1FB1-429A-BA91-0FD5F1FA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4201-3F42-49F8-A426-C59F3128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14D-44CA-4C1A-AF29-4706E4DA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A651-3A19-43B8-A1EB-6840F7B5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D418B-59DC-4D12-B33C-6D9B64DD86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