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6087"/>
        <c:axId val="38767396"/>
      </c:barChart>
      <c:catAx>
        <c:axId val="78976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67396"/>
        <c:crosses val="autoZero"/>
        <c:auto val="1"/>
        <c:lblAlgn val="ctr"/>
        <c:lblOffset val="100"/>
        <c:noMultiLvlLbl val="0"/>
      </c:catAx>
      <c:valAx>
        <c:axId val="38767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6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6CA-F7A4-41CC-92FD-EA8E9648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AEB-6D28-4E57-940B-CC6FBBA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4B1-7E7D-4A05-85B0-89C413BF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594-24E9-4C2E-9255-FCC45907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258-2FC4-45D1-8642-935B6101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86E-74C0-4FE1-9649-BCA8D7B9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C18-F70A-41B5-A66E-ED20008C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D98-CA74-45AE-B767-9956ACF9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E78-2A1C-4878-A598-D9D3F659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9CC-8C6D-407D-8047-747BF29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A8F-2323-45A7-B44A-E36D8B8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BCE-6067-4614-8F57-A154108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31F9D-2049-4F07-8EAA-768A492A7A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