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71866"/>
        <c:axId val="12916541"/>
      </c:barChart>
      <c:catAx>
        <c:axId val="53171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16541"/>
        <c:crosses val="autoZero"/>
        <c:auto val="1"/>
        <c:lblAlgn val="ctr"/>
        <c:lblOffset val="100"/>
        <c:noMultiLvlLbl val="0"/>
      </c:catAx>
      <c:valAx>
        <c:axId val="12916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71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0C8-838E-4B85-8F60-244F836D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EE7-CE1D-4735-AC60-DDA8F5E4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DD37-B6A9-412B-80D5-ED9C0E18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A17-909C-474B-BE36-3DD10F04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47B-5E89-4E49-8418-B000D077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4D4-7154-485D-9D7F-1EB58646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E7E-09D1-44A2-9446-E86F04B0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3C2-2512-4D27-AE04-B4035932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03BB-A522-45A0-9481-41C65D08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EF7-2020-43AE-8405-918D0A93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303-D332-4578-B898-991237CF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132E-E15E-4805-B4DA-3AA5EEF9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32ADC-C0E1-4404-AB83-3D8AB3BDCE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