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92658"/>
        <c:axId val="4478191"/>
      </c:barChart>
      <c:catAx>
        <c:axId val="30792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8191"/>
        <c:crosses val="autoZero"/>
        <c:auto val="1"/>
        <c:lblAlgn val="ctr"/>
        <c:lblOffset val="100"/>
        <c:noMultiLvlLbl val="0"/>
      </c:catAx>
      <c:valAx>
        <c:axId val="4478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92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BF8-C8AE-40DB-AEBA-DAB2005A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596-1E6F-440F-AC19-B28DD97C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726-D6A2-4AF8-AFFA-433EC599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819-01F3-4CCD-8FB5-3EE906E5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567-0111-4BC8-8407-3AD6444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91B-7C8C-4117-B1BC-1EC4BA0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467-6013-4FEB-B96F-7E4F943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83E-9193-4FF1-BB57-A85BDD0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E9C-8B74-44A9-B57C-287AF4E5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EE-6060-4243-B0F0-53504773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EFF-60BF-403B-A97B-76DCBD1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158-0E25-468A-9114-4C10EFF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BC7C4-A26B-4A25-B5C5-C8C28B78DA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